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9ED2EB-D7BB-4870-A69F-5E1C449E065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3B6FC5-4E83-4035-A042-A5E7F45C0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B61D4C-C61F-45D0-B3E5-6628FE8A0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4A274C-76A6-466F-83C1-08F809D4864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364E35-8B08-4258-B4FE-37E944DEA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D2747B-DE46-421E-8C6E-E367C20FE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1CC117-E6C2-4CF0-B88C-B9EED5EA5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EBC435-33CB-4CF5-A125-FB85097F9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DA9666-1136-4222-B290-5CAFF9DED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6AA255-C3D4-4DE7-ABC3-F17217522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A35DBE-D130-40DB-8F77-609113CA9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E3E60B-EEBC-47A0-AECE-932903299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D3881-E502-44CE-8C26-D42B50F7A2DD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4000" y="2276640"/>
            <a:ext cx="5184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二十四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肠杆菌科细菌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TextBox 2"/>
          <p:cNvSpPr/>
          <p:nvPr/>
        </p:nvSpPr>
        <p:spPr>
          <a:xfrm>
            <a:off x="2234160" y="5072040"/>
            <a:ext cx="127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首都医科大学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朱俊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610920" y="1515960"/>
            <a:ext cx="8281800" cy="486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-246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致病性与免疫性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6960" indent="-246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致病因素：侵袭力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Vi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原，可在胞内存活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6960" indent="-246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内毒素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6960" indent="-246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肠毒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6960" indent="-246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所致疾病：肠热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伤寒或副伤寒；两次菌血症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6960" indent="-246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胆囊是沙门菌储存场所；带菌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6960" indent="-246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食物中毒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6960" indent="-246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败血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6960" indent="-246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免疫性：病后免疫力不显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6960" indent="-246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6960" indent="-246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6960" indent="-246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6960" indent="-246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三节 沙门菌属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三节 沙门菌属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4360" y="1557000"/>
            <a:ext cx="79200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微生物学检查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临床标本的细菌学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标本采集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肠热症患者发病一周内取血液，第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-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周取粪便或尿液等；分离培养、生化鉴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免疫学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肥达反应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Widal test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带菌者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防治原则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疫苗、药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三节 沙门菌属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684360" y="1125000"/>
            <a:ext cx="79200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肥达反应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用已知的伤寒沙门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诊断抗原，甲型副伤寒、肖氏和希氏等沙门菌的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诊断抗原分别与患者血清作定量凝集试验，以测定患者血清中有无相应抗体及其含量，辅助诊断肠热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判定结果时需注意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：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.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本地区人群正常值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动态观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.H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体在诊断上的意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826560" y="2091960"/>
            <a:ext cx="7921800" cy="428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生物学特征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革兰阴性小杆菌、无鞭毛、无荚膜，有菌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兼性厌氧，营养要求不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一般不分解乳糖，不分解尿素、不产生硫化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有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K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原，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四群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4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多个血清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外界抗性较弱，对酸敏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四节 志贺菌属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755640" y="1699920"/>
            <a:ext cx="7848720" cy="385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1000"/>
          </a:bodyPr>
          <a:p>
            <a:pPr marL="209160" indent="-209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致病性与免疫性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9160" indent="-209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致病因素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侵袭力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9160" indent="-209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内毒素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9160" indent="-209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外毒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志贺毒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具备神经毒性、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9160" indent="-209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胞毒性和肠毒性等多种活性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9160" indent="-209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所致疾病：细菌性痢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急性菌痢、慢性菌痢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9160" indent="-209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中毒性菌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9160" indent="-209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免疫性：免疫力维持时间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9160" indent="-209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9160" indent="-209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9160" indent="-209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9160" indent="-209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四节 志贺菌属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四节 志贺菌属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618920" y="1844640"/>
            <a:ext cx="669780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微生物学检查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临床标本采集及分离鉴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快速诊断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荧光免疫菌球法、协同凝集试验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防治原则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综合性防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多重耐药株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药敏试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五节 其他肠杆菌科细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1402920" y="2636640"/>
            <a:ext cx="669780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9000"/>
          </a:bodyPr>
          <a:p>
            <a:pPr marL="202320" indent="-202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克雷伯菌属：肺炎克雷伯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2320" indent="-202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2320" indent="-202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变形杆菌属：外斐试验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Weil-felix test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2320" indent="-202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2320" indent="-202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2320" indent="-202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2320" indent="-202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思考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258560" y="2492280"/>
            <a:ext cx="713412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肠杆菌科细菌生物学特性的异同及其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区别鉴定中的意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肠杆菌科抗原种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肥达反应的原理与结果分析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Verdana"/>
                <a:ea typeface="黑体"/>
              </a:rPr>
              <a:t>第一节 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074240" y="2368080"/>
            <a:ext cx="7169400" cy="365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肠杆菌科细菌是一大群生物学特性相似、常寄居在人和动物肠道中的革兰阴性杆菌，可随人和动物粪便排出而广泛分布于水和土壤中。多数肠杆菌科细菌为肠道正常菌群成员，少数为致病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肠杆菌科细菌的共同生物学特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641160" y="1864800"/>
            <a:ext cx="803412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革兰阴性小杆菌、多数有鞭毛、菌毛，少数有荚膜或微荚膜，不形成芽胞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需氧或兼性厌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生化反应类型多样化，可用于细菌鉴别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原构造较复杂，有菌体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抗原、鞭毛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抗原和微荚膜抗原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K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Vi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在水、粪便中可生存较长时间，但对理化因素的抵抗力不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易变异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684360" y="2091960"/>
            <a:ext cx="7920000" cy="428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生物学特征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革兰阴性小杆菌、多数有周身鞭毛、菌毛，某些菌株有微荚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兼性厌氧，营养要求不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可发酵乳糖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IMViC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结果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++-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有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K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三种抗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血清型表示方式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O8:K40:H9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或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O27:H2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二节 埃希菌属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二节 埃希菌属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386000" y="2080800"/>
            <a:ext cx="6858000" cy="32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致病因素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侵袭力：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K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原；菌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毒素：肠毒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耐热肠毒素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ST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不耐热肠毒素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LT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志贺样毒素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内毒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二节 埃希菌属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11280" y="1412640"/>
            <a:ext cx="792144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所致疾病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肠外感染：泌尿系感染（最常见）；新生儿脑膜炎、败血症（婴儿、老年人或免疫功能极度低下者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腹泻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ETEC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婴幼儿和旅游者腹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EPEC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婴幼儿腹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EIEC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较大儿童和成人腹泻，类似细菌性痢疾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EHEC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出血性结肠炎和溶血性尿毒综合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EAggEC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婴儿持续性水样腹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二节 埃希菌属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304920" y="1743120"/>
          <a:ext cx="8610480" cy="4206960"/>
        </p:xfrm>
        <a:graphic>
          <a:graphicData uri="http://schemas.openxmlformats.org/drawingml/2006/table">
            <a:tbl>
              <a:tblPr/>
              <a:tblGrid>
                <a:gridCol w="1242720"/>
                <a:gridCol w="1295640"/>
                <a:gridCol w="3457440"/>
                <a:gridCol w="261468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菌株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作用部位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致病机理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疾病与症状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ETEC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小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质粒介导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LT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和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ST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肠毒素，大量分泌体液电解质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婴幼儿和旅行者腹泻，水样便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EPEC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小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质粒介导黏附，破坏黏膜上皮细胞，不产生肠毒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婴儿腹泻，水样便或黏液便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EIEC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大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质粒介导侵袭，破坏结肠黏膜上皮细胞，不产生肠毒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较大儿童和成人腹泻，脓血便或黏液血便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10036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EHEC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大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溶源性噬菌体编码毒素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Stx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，中断肠黏膜上皮细胞蛋白质合成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出血性结肠炎，儿童老人多见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EAggEC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小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质粒介导细菌聚集黏附于上皮细胞，阻断液体吸收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婴儿腹泻，持续性水样便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二节 埃希菌属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4360" y="1412640"/>
            <a:ext cx="79200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微生物学检查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临床标本细菌学检查：分离培养、生化鉴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卫生细菌学检查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我国卫生标准为每毫升饮用水、汽水、果汁中细菌总数不超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0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个；每升饮用水中大肠菌群数不超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个，瓶装水、果汁等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00ml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中不超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个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防治原则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菌毛疫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耐药菌株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药敏试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684360" y="1915920"/>
            <a:ext cx="7920000" cy="428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生物学特征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革兰阴性小杆菌、多数有周身鞭毛、菌毛，一般无荚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兼性厌氧，营养要求不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不能发酵乳糖，部分致病沙门菌硫化氢试验阳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主要有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原，少数菌有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Vi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外界抗性较弱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三节 沙门菌属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mingzhe</cp:lastModifiedBy>
  <dcterms:modified xsi:type="dcterms:W3CDTF">2015-08-26T05:53:26Z</dcterms:modified>
  <cp:revision>135</cp:revision>
  <dc:subject/>
  <dc:title>内科护理学</dc:title>
</cp:coreProperties>
</file>